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95D-346A-42DB-962A-199AA5E9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35A-E3FD-4569-AE0C-AC560B05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258-008E-4B51-8A9D-DCDE6757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D61-7C06-4234-8356-7CAB6E67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A8E9-BDA5-4CB7-92B0-899A2ED6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A800-E023-4995-9C69-E6AAF5DD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AA51-C35A-44ED-A247-CA7491D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F2F3-F16E-4719-932B-13CD6E4D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6A5B-8134-42AA-955C-8D49B944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D34D-A00C-4A43-9B13-93E5FCF3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636E-DA36-4C2D-9337-7E322A0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FD8-9855-4EBA-B78E-004AD5D5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DAD0-D49A-4813-8F8A-25BF109B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E1A7-71F2-4356-A1DA-3DF86FD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31C6-D30A-4057-B252-C3CB1D0F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4354-42F3-4D5A-8FBD-24E910E8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C047-DED4-48CB-B882-6EEAB375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831-FC45-41EA-91EB-5619F422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74C-77A1-4DCF-AA50-53C91C1E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FF9-4A0E-456E-BCA3-D3E0378D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B6D-9DC0-4A1A-B799-679BB843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104-F518-481F-B178-27D2F8A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512-F14E-4BDA-8683-C94ABC43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636-87A8-464E-9646-02776A7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336600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9FA3-A8CC-414D-9E11-2C363DF338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336600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AD8D-5DC4-401E-A477-A0FB7A0855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7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riting Complex Sent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5"/>
          <p:cNvSpPr/>
          <p:nvPr/>
        </p:nvSpPr>
        <p:spPr>
          <a:xfrm>
            <a:off x="777960" y="5060880"/>
            <a:ext cx="72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pendent clause needs the rest of the sentence for suppor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144440" y="3132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you love me, I love you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4" name="Group 32"/>
          <p:cNvGrpSpPr/>
          <p:nvPr/>
        </p:nvGrpSpPr>
        <p:grpSpPr>
          <a:xfrm>
            <a:off x="1408320" y="2057400"/>
            <a:ext cx="3436200" cy="1076040"/>
            <a:chOff x="1408320" y="2057400"/>
            <a:chExt cx="3436200" cy="1076040"/>
          </a:xfrm>
        </p:grpSpPr>
        <p:sp>
          <p:nvSpPr>
            <p:cNvPr id="105" name="AutoShape 27"/>
            <p:cNvSpPr/>
            <p:nvPr/>
          </p:nvSpPr>
          <p:spPr>
            <a:xfrm rot="16218600">
              <a:off x="2859480" y="1140480"/>
              <a:ext cx="533520" cy="34333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89280 h 3433320"/>
                <a:gd name="textAreaBottom" fmla="*/ 3344040 h 34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Text Box 28"/>
            <p:cNvSpPr/>
            <p:nvPr/>
          </p:nvSpPr>
          <p:spPr>
            <a:xfrm>
              <a:off x="1497240" y="2057400"/>
              <a:ext cx="299340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4497480" y="3581640"/>
            <a:ext cx="3123720" cy="921600"/>
            <a:chOff x="4497480" y="3581640"/>
            <a:chExt cx="3123720" cy="921600"/>
          </a:xfrm>
        </p:grpSpPr>
        <p:sp>
          <p:nvSpPr>
            <p:cNvPr id="108" name="AutoShape 29"/>
            <p:cNvSpPr/>
            <p:nvPr/>
          </p:nvSpPr>
          <p:spPr>
            <a:xfrm flipV="1" rot="5381400">
              <a:off x="5868720" y="2954160"/>
              <a:ext cx="380880" cy="1644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2840 h 1644120"/>
                <a:gd name="textAreaBottom" fmla="*/ 1601280 h 16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4497480" y="4043520"/>
              <a:ext cx="3123720" cy="459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n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lex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179360" y="3743280"/>
            <a:ext cx="724248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 clau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subject and verb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express a complete thought because it begins with a subordinating conjunction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pendent clause is 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bordin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ike babi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 al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209680" y="2789280"/>
            <a:ext cx="44960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Garamond"/>
              </a:rPr>
              <a:t>Because you love m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4800600" y="1774800"/>
            <a:ext cx="2286000" cy="900000"/>
            <a:chOff x="4800600" y="1774800"/>
            <a:chExt cx="2286000" cy="900000"/>
          </a:xfrm>
        </p:grpSpPr>
        <p:sp>
          <p:nvSpPr>
            <p:cNvPr id="114" name="Text Box 11"/>
            <p:cNvSpPr/>
            <p:nvPr/>
          </p:nvSpPr>
          <p:spPr>
            <a:xfrm>
              <a:off x="4800600" y="1774800"/>
              <a:ext cx="2286000" cy="581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Fragment!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H="1">
              <a:off x="5181480" y="24462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t Clau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200" y="2338560"/>
            <a:ext cx="77137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s are used to join a dependent claus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dependent cla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dependent cla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the sentence. The comma mus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dependent cla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I walked down the hallway , I could hear the echo of my footste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4"/>
          <p:cNvSpPr/>
          <p:nvPr/>
        </p:nvSpPr>
        <p:spPr>
          <a:xfrm flipH="1">
            <a:off x="5486400" y="4359240"/>
            <a:ext cx="574560" cy="61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2338560"/>
            <a:ext cx="800100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 is used when the dependent clau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independent clause. Then,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uses are joined without any punct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uld hear the echo of my footsteps as I walked down the hallwa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2212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dependent clauses are only part of a sentence, you can never use a semicolon to connect them to another sentence.  Semicolons are only us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lete sent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ave loved you for years ; although I never admitted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ave loved you for years although I never admitted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5557680" y="3929040"/>
            <a:ext cx="59400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557680" y="5025960"/>
            <a:ext cx="1084320" cy="618840"/>
            <a:chOff x="5557680" y="5025960"/>
            <a:chExt cx="1084320" cy="618840"/>
          </a:xfrm>
        </p:grpSpPr>
        <p:sp>
          <p:nvSpPr>
            <p:cNvPr id="126" name="Text Box 7"/>
            <p:cNvSpPr/>
            <p:nvPr/>
          </p:nvSpPr>
          <p:spPr>
            <a:xfrm>
              <a:off x="6053040" y="5276520"/>
              <a:ext cx="588960" cy="36828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H="1" flipV="1">
              <a:off x="5557680" y="5025960"/>
              <a:ext cx="46368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8" name="Group 10"/>
          <p:cNvGrpSpPr/>
          <p:nvPr/>
        </p:nvGrpSpPr>
        <p:grpSpPr>
          <a:xfrm>
            <a:off x="6151680" y="4410000"/>
            <a:ext cx="997920" cy="368280"/>
            <a:chOff x="6151680" y="4410000"/>
            <a:chExt cx="997920" cy="368280"/>
          </a:xfrm>
        </p:grpSpPr>
        <p:sp>
          <p:nvSpPr>
            <p:cNvPr id="129" name="Text Box 6"/>
            <p:cNvSpPr/>
            <p:nvPr/>
          </p:nvSpPr>
          <p:spPr>
            <a:xfrm>
              <a:off x="6561000" y="4410000"/>
              <a:ext cx="588600" cy="368280"/>
            </a:xfrm>
            <a:prstGeom prst="rect">
              <a:avLst/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No!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H="1" flipV="1">
              <a:off x="6151680" y="4410000"/>
              <a:ext cx="49032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8880" y="507600"/>
            <a:ext cx="827712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Subordinating (Dependent) Conjun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S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oundations Firs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. 18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981080"/>
          <a:ext cx="8534520" cy="4199040"/>
        </p:xfrm>
        <a:graphic>
          <a:graphicData uri="http://schemas.openxmlformats.org/drawingml/2006/table">
            <a:tbl>
              <a:tblPr/>
              <a:tblGrid>
                <a:gridCol w="1600200"/>
                <a:gridCol w="1812960"/>
                <a:gridCol w="1997280"/>
                <a:gridCol w="1417680"/>
                <a:gridCol w="17064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w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 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her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mpound-Complex Sen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4560" y="2593800"/>
            <a:ext cx="747072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ound-complex sentence is the last and most complicated type of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ontains at least one dependent clause and at least two independent clau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2"/>
          <p:cNvSpPr/>
          <p:nvPr/>
        </p:nvSpPr>
        <p:spPr>
          <a:xfrm>
            <a:off x="865080" y="5716440"/>
            <a:ext cx="77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pendent clause added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more independent clau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752480" y="297180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we are a famil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love you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love 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3431880" y="4268520"/>
            <a:ext cx="3809880" cy="1067040"/>
            <a:chOff x="3431880" y="4268520"/>
            <a:chExt cx="3809880" cy="1067040"/>
          </a:xfrm>
        </p:grpSpPr>
        <p:sp>
          <p:nvSpPr>
            <p:cNvPr id="138" name="Text Box 27"/>
            <p:cNvSpPr/>
            <p:nvPr/>
          </p:nvSpPr>
          <p:spPr>
            <a:xfrm>
              <a:off x="3965400" y="4827600"/>
              <a:ext cx="3276360" cy="459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ndependent clauses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H="1" flipV="1">
              <a:off x="3431880" y="4268520"/>
              <a:ext cx="1447560" cy="9903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 flipV="1">
              <a:off x="5413320" y="4344840"/>
              <a:ext cx="1294920" cy="9907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41" name="Group 32"/>
          <p:cNvGrpSpPr/>
          <p:nvPr/>
        </p:nvGrpSpPr>
        <p:grpSpPr>
          <a:xfrm>
            <a:off x="2089440" y="1981080"/>
            <a:ext cx="5582160" cy="1005840"/>
            <a:chOff x="2089440" y="1981080"/>
            <a:chExt cx="5582160" cy="1005840"/>
          </a:xfrm>
        </p:grpSpPr>
        <p:sp>
          <p:nvSpPr>
            <p:cNvPr id="142" name="Text Box 25"/>
            <p:cNvSpPr/>
            <p:nvPr/>
          </p:nvSpPr>
          <p:spPr>
            <a:xfrm>
              <a:off x="2376720" y="1981080"/>
              <a:ext cx="486432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AutoShape 31"/>
            <p:cNvSpPr/>
            <p:nvPr/>
          </p:nvSpPr>
          <p:spPr>
            <a:xfrm rot="16218600">
              <a:off x="4632840" y="-65520"/>
              <a:ext cx="495360" cy="5579640"/>
            </a:xfrm>
            <a:custGeom>
              <a:avLst/>
              <a:gdLst>
                <a:gd name="textAreaLeft" fmla="*/ 0 w 495360"/>
                <a:gd name="textAreaRight" fmla="*/ 178920 w 495360"/>
                <a:gd name="textAreaTop" fmla="*/ 145440 h 5579640"/>
                <a:gd name="textAreaBottom" fmla="*/ 5434200 h 55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993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ound-Complex Sente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2209680"/>
          <a:ext cx="6248520" cy="3143520"/>
        </p:xfrm>
        <a:graphic>
          <a:graphicData uri="http://schemas.openxmlformats.org/drawingml/2006/table">
            <a:tbl>
              <a:tblPr/>
              <a:tblGrid>
                <a:gridCol w="2830680"/>
                <a:gridCol w="341784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ou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l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ound-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94"/>
          <p:cNvSpPr/>
          <p:nvPr/>
        </p:nvSpPr>
        <p:spPr>
          <a:xfrm>
            <a:off x="623880" y="255600"/>
            <a:ext cx="78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every sentence in English fits into one of these four categories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4680" y="304560"/>
            <a:ext cx="8292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ow know everything you need to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2424240"/>
            <a:ext cx="80010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write anything you want to writ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way you want to write i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still get the punctuation right each tim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and Dependent Cla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021040"/>
            <a:ext cx="8001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ains a subject, verb, and makes sense when it stands by itsel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ild’s endless crying is very disturbing to her par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ds, flu, and other respiratory infections happen frequently in the winter and cause absences from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got a cup of coffee and turned on his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and Dependent Cla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4200" y="2084400"/>
            <a:ext cx="80010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use contains a subject(s)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b(s), but it does not make sense when i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s by itself because it begins with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ub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is supposed to jo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to an independent cla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she has had a terrible cold all wee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 got to the office and checked my email this mo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Maria and Hector waited for an hour in the doctor’s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Simple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2403360"/>
            <a:ext cx="6210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mple sentence is o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s with a period or semicol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ompound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63720" y="2084040"/>
            <a:ext cx="76118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und sente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made up of two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simple sentences joined by one of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a and a coordinating con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co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colon and a conjunctive adverb or transitional ex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ordinating Conjun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126880"/>
            <a:ext cx="83012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e coordinating conjunctions by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ronym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NBO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unctive Adverb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and Transitional Expre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2062080"/>
            <a:ext cx="80010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junctive adver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word that connects two independent clauses and shows the relationship between the id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anted to cash my check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fortunat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bank was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ansi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phrase that shows that relationshi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uld use a job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 the other h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 like having free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 of Compound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3720" y="2168640"/>
            <a:ext cx="7611840" cy="39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comma and a co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semicol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semicolon and a conjunctive adverb or transitional expres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 theref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omplex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2041200"/>
            <a:ext cx="8001000" cy="3978360"/>
          </a:xfrm>
          <a:prstGeom prst="rect">
            <a:avLst/>
          </a:prstGeom>
          <a:noFill/>
          <a:ln w="1260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lex sentence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ough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to which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omp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ough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has been ad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ordinating conjunction join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 cla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to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I like to study grammar,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ove this class because 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30T23:29:26Z</dcterms:created>
  <dc:creator>Linda J. Stine</dc:creator>
  <dc:description/>
  <dc:language>en-US</dc:language>
  <cp:lastModifiedBy>KISD</cp:lastModifiedBy>
  <dcterms:modified xsi:type="dcterms:W3CDTF">2011-03-29T16:05:06Z</dcterms:modified>
  <cp:revision>54</cp:revision>
  <dc:subject/>
  <dc:title>Writing Complex Sentences</dc:title>
</cp:coreProperties>
</file>